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39009"/>
        <c:axId val="92549290"/>
      </c:barChart>
      <c:catAx>
        <c:axId val="69639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49290"/>
        <c:crosses val="autoZero"/>
        <c:auto val="1"/>
        <c:lblAlgn val="ctr"/>
        <c:lblOffset val="100"/>
        <c:noMultiLvlLbl val="0"/>
      </c:catAx>
      <c:valAx>
        <c:axId val="92549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39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2E5-A6C9-430D-B512-2EEE13DB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AD8-9CC5-4EA8-9077-37579A31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D17-3167-4371-8002-031A77FB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15E-7AE1-4B57-B0FA-DC28CF9F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EED-6F54-4CB0-BF6C-D74F7F97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E2E-7F0E-48B5-B8B6-F2EB85FB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66B-E09D-483C-8CAB-0E0BFCC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A67-79EF-4871-A041-1FD56C09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7F8-665B-4E54-98B7-DB0FE4FF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223-8961-4AE1-84E0-24EB6A0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DA0-A001-472B-AF42-84C368F1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DF1-A636-4843-8151-4A49257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AAEA6-F4C5-4606-8080-0EA461C2BC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