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13716"/>
        <c:axId val="76973076"/>
      </c:barChart>
      <c:catAx>
        <c:axId val="48913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73076"/>
        <c:crosses val="autoZero"/>
        <c:auto val="1"/>
        <c:lblAlgn val="ctr"/>
        <c:lblOffset val="100"/>
        <c:noMultiLvlLbl val="0"/>
      </c:catAx>
      <c:valAx>
        <c:axId val="76973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13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12C-4C5A-48A2-BDFF-F69EE203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F68-E42C-42C4-B438-85D5805A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36D-18E0-46B5-A548-A7ED1D3B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341-9BB0-4066-9FC4-95DFCD15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017-5BBA-4586-B20C-31EB5DB0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6F4-EB28-4824-A13C-E7875525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D9A-D2A4-4A39-ABA9-C0218BFC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A5B-337F-4D41-BB2F-E0D5F996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938-0A2F-401F-99DD-0EEE0045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513-1BC2-4C44-A384-9E18CC47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051-D696-436D-948A-E4F2E755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BEB-3889-4BD5-9224-A4D07141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9AE05-40DF-4B00-9E28-BDAE1DA1B3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