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22007"/>
        <c:axId val="33567088"/>
      </c:barChart>
      <c:catAx>
        <c:axId val="70422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67088"/>
        <c:crosses val="autoZero"/>
        <c:auto val="1"/>
        <c:lblAlgn val="ctr"/>
        <c:lblOffset val="100"/>
        <c:noMultiLvlLbl val="0"/>
      </c:catAx>
      <c:valAx>
        <c:axId val="33567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2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D7-5415-4444-9936-848BCE9E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35A-E1AA-437E-9F95-B90D283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A08-D62B-4E35-BF2B-5F0A058A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76C-90C4-4076-8C6E-31F87E31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2EB-BFED-475F-8259-A38E4AC2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460-5B20-466F-BF01-DFEADC8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64D-C9F3-49E5-B98F-E4180D0F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DF5-834C-45DC-A5D4-E2DC2AAB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05C-B576-460F-80E8-790C262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338-A2E7-47F0-8568-A4DBEB4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0A4-3435-4064-82CD-B6FC0F2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A3A-F00B-4BFA-9F4F-7F2F629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C84B5-65D1-4845-9B76-A223165EE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