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86636"/>
        <c:axId val="76523450"/>
      </c:barChart>
      <c:catAx>
        <c:axId val="41186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23450"/>
        <c:crosses val="autoZero"/>
        <c:auto val="1"/>
        <c:lblAlgn val="ctr"/>
        <c:lblOffset val="100"/>
        <c:noMultiLvlLbl val="0"/>
      </c:catAx>
      <c:valAx>
        <c:axId val="76523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86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E68-FE82-4402-9AD4-61D5D824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D88-CBD2-4BC0-9EE4-A59C8F2B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77F-71D0-442F-92E4-DA3997AE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777-54A2-4592-BD18-C06247BC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F40-2B83-44DF-AD7A-DF6EBE8C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08E-F9FA-4703-885F-10A338C2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8E1-4D82-4411-BCFC-BE95ADF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9EC-7924-4A41-8A8B-E858DE0C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04C-DD52-4C7D-84BA-BE87B928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776-5AAE-4B30-9A58-914EB19E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F31-1612-43A4-AC24-67CE1202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2C6-EEDB-4507-B56B-41ECF897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FE509-32BD-4B37-9830-513824B1B6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