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41382"/>
        <c:axId val="38659500"/>
      </c:barChart>
      <c:catAx>
        <c:axId val="76341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59500"/>
        <c:crosses val="autoZero"/>
        <c:auto val="1"/>
        <c:lblAlgn val="ctr"/>
        <c:lblOffset val="100"/>
        <c:noMultiLvlLbl val="0"/>
      </c:catAx>
      <c:valAx>
        <c:axId val="38659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41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B2A-BF6E-4B54-B7C2-558BCE3E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310-F0BA-4FB1-9AC6-C36E7EBA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F19-564A-4119-81BA-D512425B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3E4-A3E3-45EC-88C4-F7B439E6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00C-90A2-4001-A76D-8525BDCA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C9D-6C04-4B66-8763-4D7C3B32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0BD-F614-4AC3-BD64-98ECB328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353-74D2-4207-8C08-823EFBE4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664-6F0E-468B-812A-A3543C6F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1E5-8621-43F1-8EAC-D255298F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9C2-25F1-49C7-8480-23A9EDC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D0C-8B3F-4AEB-9FF6-BCEA2146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36F7C-15A0-4E97-8C24-7467FFFAD2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