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53553"/>
        <c:axId val="78924843"/>
      </c:barChart>
      <c:catAx>
        <c:axId val="56353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24843"/>
        <c:crosses val="autoZero"/>
        <c:auto val="1"/>
        <c:lblAlgn val="ctr"/>
        <c:lblOffset val="100"/>
        <c:noMultiLvlLbl val="0"/>
      </c:catAx>
      <c:valAx>
        <c:axId val="78924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53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03B-2C2A-4B66-AE48-6D597DC7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C77-95C4-401D-8432-180D1114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E09-EA4A-4017-828C-5EEAF883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39D-03CC-4B69-BFA1-A11F4501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28D-95AD-4620-8C6B-5C5F3075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21A-0A12-4A42-AE68-57BC3FA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F51-D330-43C4-AE74-88D163C3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9FD-859F-442C-9D96-CFC6BDA8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CB3-1B00-4BB3-9816-C4ADAB37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D88-D6B4-428D-9B13-2E3F04F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562-46D3-461C-8FD6-AB8018D1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C31-3886-4249-AE5C-2DF56BF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A8E6B-9640-4A8B-912A-6CC767B0B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