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 rot="240000">
            <a:off x="111240" y="0"/>
            <a:ext cx="1109520" cy="36360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363960" bIns="-46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 hidden="1"/>
          <p:cNvSpPr/>
          <p:nvPr/>
        </p:nvSpPr>
        <p:spPr>
          <a:xfrm rot="240000">
            <a:off x="111240" y="0"/>
            <a:ext cx="1109520" cy="36360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363960" bIns="-46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