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11743"/>
        <c:axId val="21611323"/>
      </c:barChart>
      <c:catAx>
        <c:axId val="944117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11323"/>
        <c:crosses val="autoZero"/>
        <c:auto val="1"/>
        <c:lblAlgn val="ctr"/>
        <c:lblOffset val="100"/>
        <c:noMultiLvlLbl val="0"/>
      </c:catAx>
      <c:valAx>
        <c:axId val="21611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117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9DB-CAEF-43F6-8866-6A5E4F1C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014-9BC7-4BA8-9AF5-D35ECBDD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2A9-87EF-47E0-BC2F-A0D8AA7B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29E0-C78D-4CB2-826A-24701C56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274-3A93-4735-A0DB-D71D745F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A86-4874-43C5-BDF1-96058988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F41-F2CA-4FDA-99EA-1EA3F398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86B-5505-4489-9B7B-BC761F9E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4172-B046-43A1-A2E1-5A1F5FFD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E39-EAE2-4D7E-86B6-1162FAB2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D27-E384-4ACF-BE10-AD3568E8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5FF4-A7C1-4A87-B067-F8344039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90883-CC29-402E-B80B-80C329E7F4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