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528479"/>
        <c:axId val="22021100"/>
      </c:barChart>
      <c:catAx>
        <c:axId val="415284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21100"/>
        <c:crosses val="autoZero"/>
        <c:auto val="1"/>
        <c:lblAlgn val="ctr"/>
        <c:lblOffset val="100"/>
        <c:noMultiLvlLbl val="0"/>
      </c:catAx>
      <c:valAx>
        <c:axId val="220211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284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D905-6340-4516-BEEA-8C0EAABA6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826F-58B1-43F1-93FB-14350015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E56B-92CE-499D-A949-64E56EB4E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B3BA-4B70-457A-AE7D-8215FB88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38A0-4B1A-4803-8E71-2E1A5358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24E9-E2A4-4C54-AC97-CE6B480C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A648-E742-443D-B322-3A72E605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ECCD-54DE-493E-811E-A52E5B1B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CCA7-B3DF-41B8-9D39-C28837D5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7EE6-579A-49CC-A2DA-4114BDAA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679F-9053-4B94-83D2-09F4417A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25EC-1C71-441F-AF87-5E8DC6E4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41646-FF46-4AE6-86A4-07DFFFCAA8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