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053663"/>
        <c:axId val="19424303"/>
      </c:barChart>
      <c:catAx>
        <c:axId val="690536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24303"/>
        <c:crosses val="autoZero"/>
        <c:auto val="1"/>
        <c:lblAlgn val="ctr"/>
        <c:lblOffset val="100"/>
        <c:noMultiLvlLbl val="0"/>
      </c:catAx>
      <c:valAx>
        <c:axId val="194243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536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478-CE81-48B0-BFD1-657F5B91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1457-457B-4858-86A7-425EB75A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F3AA-1490-44BF-ADE8-DB50EFD2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2788-48E7-4A3C-A7C5-6698E7F4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9136-4E42-4802-BE71-951400E0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D774-F0E6-4C5C-93F1-3E5519DB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B3B4-0D84-4FCF-AFBB-1954E760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A876-B24A-451E-9E81-BC652022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9019-7F38-4804-BD33-32B4C85F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1385-FE8D-4E6C-AFD2-EBF8A1E3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30C4-7748-4743-8023-DF54019D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480C-64D8-49FC-80A9-FB26B503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B02C6-860A-4DD7-8E29-09C8EB2E55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